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D36-3AFB-4A2D-878D-E24B4EB8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590-6E7C-4BC5-B41C-3BFB7588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A44-CB45-4A37-885A-4D0B8C10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8FF-200D-466D-91BF-21992FA8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657-16CC-4A62-9DFD-6A1C8D6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512-E481-46C9-AE46-1FBB0CF9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6F6-27B5-4F35-A120-2726C229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F07-5E3F-473D-8B04-33955CA8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DBD-0917-4B1C-920F-B7A50A40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082-F8D8-4143-B03C-C8FCB79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488-D896-4E85-B5A9-6CE944BD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100-17C4-4984-8533-57A04091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993-D55F-4192-A751-DBAA1567233B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2120" y="2162160"/>
            <a:ext cx="76276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fice of 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iona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y 5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746280" y="3124080"/>
            <a:ext cx="765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6348240" y="5029200"/>
            <a:ext cx="199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Greg Eber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odd Hegl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Ross Roc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li Ta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Alam Tamb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stern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8880-E458-4F82-80C6-A54EA01B3F98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ys to Improv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 better understanding of student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fficiency differences amongst full-time, part-time and stu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eak demand statistics and break down analysis into smaller time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BCB8-66E2-4AF7-AEF9-CA137EFBD3DE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http://z.about.com/d/manhattan/1/7/K/B/nyustern.jpg"/>
          <p:cNvPicPr/>
          <p:nvPr/>
        </p:nvPicPr>
        <p:blipFill>
          <a:blip r:embed="rId1"/>
          <a:stretch/>
        </p:blipFill>
        <p:spPr>
          <a:xfrm>
            <a:off x="1066680" y="2438280"/>
            <a:ext cx="3048120" cy="2895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www.newsweek.com/media/25/71014_MoneyHappiness_vl-vertical.jpg"/>
          <p:cNvPicPr/>
          <p:nvPr/>
        </p:nvPicPr>
        <p:blipFill>
          <a:blip r:embed="rId2"/>
          <a:stretch/>
        </p:blipFill>
        <p:spPr>
          <a:xfrm>
            <a:off x="5181480" y="2438280"/>
            <a:ext cx="2857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 Snapsh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58A1-37E5-48C3-8BD9-6E301D3C0E42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2"/>
          <p:cNvGraphicFramePr/>
          <p:nvPr/>
        </p:nvGraphicFramePr>
        <p:xfrm>
          <a:off x="0" y="1219320"/>
          <a:ext cx="9144000" cy="50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50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46FB-0888-47C8-950D-B1988074A79B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determine the current operating capacity of Office of Career Development (OCD) to address MBAs career development needs, we conducted a survey of OCD Career Counse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is data, we identified the staffing allocation that would best meet student needs while minimizing associ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56B-062B-482E-9BB1-FC90006E32A3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vey of OCD Career Counsel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ach question below, except #1, was asked separately for FALL and SPRING semest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suming you are a career counselor, how many YEARS have you worked for the OC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HOURS per (a 5-day) week did you work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availability (HOURS) do you have per (a 5-day) week to meet with MBA1s and MBA2s, 1-on-1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MBA1s and MBA2s did you meet with 1-on-1 per day (excluding open hour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id you spend 1-on-1 with each student (excluding open hour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STUDENTS do you see 1-on-1 per week during open hou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o you spend with each student during open hou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any E-MAILS from MBA1s and MBA2s do you respond to per day (1 e-mail = 1 issue, resolved or not)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 average, how much TIME (minutes) does it take to respond to/resolve each e-mail/issu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ject Assump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4 open hours/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10 hours/week/counselor for 1-on-1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20 hours/week/counselor communicating wit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workers cannot meet with othe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alty attached to prevent this result ($1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ime workers cannot be fired/hired between Fall and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ime counselor: $36/hour (plus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-time counselor: $40/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workers: $24/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4A4-F878-4E5E-A33E-4761AB09CCB2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ed Survey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students utilize OCD on a 1-on-1 basis in the following man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1C19-BF4A-41A5-8154-C7F1738A4EFF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604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9DB6-01C9-4135-A9CD-038F140942FE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 of Analysis – Fall 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on-1 Meetings: All 1,198 minutes allocated to full time counse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s: All 927 minutes allocated to student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Hour Meetings: All 259 minutes allocated to part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Requ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ull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art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tud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5B8C-4FDA-4A95-8CAC-55B57B72D544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 of Analysis – Spring On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on-1 Meetings: All 839 minutes allocated to full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s: 200 minutes allocated to full-time workers, 327 allocated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Hour Meetings: 159 minutes allocated to full-tim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Requ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ull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part-time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tude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st and Demand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minimized cost is $2,497.70 dedicated to students based on the following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ssumed a 99% likelihood of meeting demand and not wasting via exces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analyses of 50%, 75%, 90% and 95% were conduc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6592-2087-4E41-9655-37D71026C81F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95280" y="5410080"/>
            <a:ext cx="6842160" cy="1268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53704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and Per Day Distribu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21:33:36Z</dcterms:created>
  <dc:creator>Todd Heglund</dc:creator>
  <dc:description/>
  <dc:language>en-US</dc:language>
  <cp:lastModifiedBy>Todd Heglund</cp:lastModifiedBy>
  <dcterms:modified xsi:type="dcterms:W3CDTF">2008-05-04T16:54:50Z</dcterms:modified>
  <cp:revision>26</cp:revision>
  <dc:subject/>
  <dc:title>Slide 1</dc:title>
</cp:coreProperties>
</file>